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  <p:sldId id="626" r:id="rId374"/>
    <p:sldId id="627" r:id="rId375"/>
    <p:sldId id="628" r:id="rId376"/>
    <p:sldId id="629" r:id="rId377"/>
    <p:sldId id="630" r:id="rId378"/>
    <p:sldId id="631" r:id="rId379"/>
    <p:sldId id="632" r:id="rId380"/>
    <p:sldId id="633" r:id="rId381"/>
    <p:sldId id="634" r:id="rId382"/>
    <p:sldId id="635" r:id="rId383"/>
    <p:sldId id="636" r:id="rId384"/>
    <p:sldId id="637" r:id="rId385"/>
    <p:sldId id="638" r:id="rId386"/>
    <p:sldId id="639" r:id="rId387"/>
    <p:sldId id="640" r:id="rId388"/>
    <p:sldId id="641" r:id="rId389"/>
    <p:sldId id="642" r:id="rId390"/>
    <p:sldId id="643" r:id="rId391"/>
    <p:sldId id="644" r:id="rId392"/>
    <p:sldId id="645" r:id="rId393"/>
    <p:sldId id="646" r:id="rId394"/>
    <p:sldId id="647" r:id="rId395"/>
    <p:sldId id="648" r:id="rId396"/>
    <p:sldId id="649" r:id="rId397"/>
    <p:sldId id="650" r:id="rId398"/>
    <p:sldId id="651" r:id="rId399"/>
    <p:sldId id="652" r:id="rId400"/>
    <p:sldId id="653" r:id="rId401"/>
    <p:sldId id="654" r:id="rId402"/>
    <p:sldId id="655" r:id="rId403"/>
    <p:sldId id="656" r:id="rId404"/>
    <p:sldId id="657" r:id="rId405"/>
    <p:sldId id="658" r:id="rId406"/>
    <p:sldId id="659" r:id="rId407"/>
    <p:sldId id="660" r:id="rId408"/>
    <p:sldId id="661" r:id="rId409"/>
    <p:sldId id="662" r:id="rId4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slide" Target="slides/slide371.xml"/><Relationship Id="rId375" Type="http://schemas.openxmlformats.org/officeDocument/2006/relationships/slide" Target="slides/slide372.xml"/><Relationship Id="rId376" Type="http://schemas.openxmlformats.org/officeDocument/2006/relationships/slide" Target="slides/slide373.xml"/><Relationship Id="rId377" Type="http://schemas.openxmlformats.org/officeDocument/2006/relationships/slide" Target="slides/slide374.xml"/><Relationship Id="rId378" Type="http://schemas.openxmlformats.org/officeDocument/2006/relationships/slide" Target="slides/slide375.xml"/><Relationship Id="rId379" Type="http://schemas.openxmlformats.org/officeDocument/2006/relationships/slide" Target="slides/slide376.xml"/><Relationship Id="rId380" Type="http://schemas.openxmlformats.org/officeDocument/2006/relationships/slide" Target="slides/slide377.xml"/><Relationship Id="rId381" Type="http://schemas.openxmlformats.org/officeDocument/2006/relationships/slide" Target="slides/slide378.xml"/><Relationship Id="rId382" Type="http://schemas.openxmlformats.org/officeDocument/2006/relationships/slide" Target="slides/slide379.xml"/><Relationship Id="rId383" Type="http://schemas.openxmlformats.org/officeDocument/2006/relationships/slide" Target="slides/slide380.xml"/><Relationship Id="rId384" Type="http://schemas.openxmlformats.org/officeDocument/2006/relationships/slide" Target="slides/slide381.xml"/><Relationship Id="rId385" Type="http://schemas.openxmlformats.org/officeDocument/2006/relationships/slide" Target="slides/slide382.xml"/><Relationship Id="rId386" Type="http://schemas.openxmlformats.org/officeDocument/2006/relationships/slide" Target="slides/slide383.xml"/><Relationship Id="rId387" Type="http://schemas.openxmlformats.org/officeDocument/2006/relationships/slide" Target="slides/slide384.xml"/><Relationship Id="rId388" Type="http://schemas.openxmlformats.org/officeDocument/2006/relationships/slide" Target="slides/slide385.xml"/><Relationship Id="rId389" Type="http://schemas.openxmlformats.org/officeDocument/2006/relationships/slide" Target="slides/slide386.xml"/><Relationship Id="rId390" Type="http://schemas.openxmlformats.org/officeDocument/2006/relationships/slide" Target="slides/slide387.xml"/><Relationship Id="rId391" Type="http://schemas.openxmlformats.org/officeDocument/2006/relationships/slide" Target="slides/slide388.xml"/><Relationship Id="rId392" Type="http://schemas.openxmlformats.org/officeDocument/2006/relationships/slide" Target="slides/slide389.xml"/><Relationship Id="rId393" Type="http://schemas.openxmlformats.org/officeDocument/2006/relationships/slide" Target="slides/slide390.xml"/><Relationship Id="rId394" Type="http://schemas.openxmlformats.org/officeDocument/2006/relationships/slide" Target="slides/slide391.xml"/><Relationship Id="rId395" Type="http://schemas.openxmlformats.org/officeDocument/2006/relationships/slide" Target="slides/slide392.xml"/><Relationship Id="rId396" Type="http://schemas.openxmlformats.org/officeDocument/2006/relationships/slide" Target="slides/slide393.xml"/><Relationship Id="rId397" Type="http://schemas.openxmlformats.org/officeDocument/2006/relationships/slide" Target="slides/slide394.xml"/><Relationship Id="rId398" Type="http://schemas.openxmlformats.org/officeDocument/2006/relationships/slide" Target="slides/slide395.xml"/><Relationship Id="rId399" Type="http://schemas.openxmlformats.org/officeDocument/2006/relationships/slide" Target="slides/slide396.xml"/><Relationship Id="rId400" Type="http://schemas.openxmlformats.org/officeDocument/2006/relationships/slide" Target="slides/slide397.xml"/><Relationship Id="rId401" Type="http://schemas.openxmlformats.org/officeDocument/2006/relationships/slide" Target="slides/slide398.xml"/><Relationship Id="rId402" Type="http://schemas.openxmlformats.org/officeDocument/2006/relationships/slide" Target="slides/slide399.xml"/><Relationship Id="rId403" Type="http://schemas.openxmlformats.org/officeDocument/2006/relationships/slide" Target="slides/slide400.xml"/><Relationship Id="rId404" Type="http://schemas.openxmlformats.org/officeDocument/2006/relationships/slide" Target="slides/slide401.xml"/><Relationship Id="rId405" Type="http://schemas.openxmlformats.org/officeDocument/2006/relationships/slide" Target="slides/slide402.xml"/><Relationship Id="rId406" Type="http://schemas.openxmlformats.org/officeDocument/2006/relationships/slide" Target="slides/slide403.xml"/><Relationship Id="rId407" Type="http://schemas.openxmlformats.org/officeDocument/2006/relationships/slide" Target="slides/slide404.xml"/><Relationship Id="rId408" Type="http://schemas.openxmlformats.org/officeDocument/2006/relationships/slide" Target="slides/slide405.xml"/><Relationship Id="rId409" Type="http://schemas.openxmlformats.org/officeDocument/2006/relationships/slide" Target="slides/slide406.xml"/><Relationship Id="rId410" Type="http://schemas.openxmlformats.org/officeDocument/2006/relationships/slide" Target="slides/slide407.xml"/><Relationship Id="rId4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74F-A5D4-47E0-AF7C-42229E31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424-640E-4FAA-A485-440D3DC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E0F-0DF7-4802-B31F-2524982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602-D391-489C-9D5B-BEFFC7BE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9C0-4916-48D1-A170-5C3B789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560160"/>
            <a:ext cx="9144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325-46B8-4155-A30E-C6F6769F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382-B71F-4B83-90BA-8935E0C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D9E-C8E6-456C-BA89-BFEF367F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7E4-26DF-4BA2-B9CD-B495901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3AC-571F-4F2C-912D-EFF25B8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0A0-29F4-4CE5-9FF7-51A41910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168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8336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168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8336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9AE-BFF8-4A2F-AFB6-4349CA58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560160"/>
            <a:ext cx="9144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743200"/>
            <a:ext cx="9142920" cy="1142280"/>
            <a:chOff x="0" y="2743200"/>
            <a:chExt cx="9142920" cy="1142280"/>
          </a:xfrm>
        </p:grpSpPr>
        <p:sp>
          <p:nvSpPr>
            <p:cNvPr id="1" name=""/>
            <p:cNvSpPr/>
            <p:nvPr/>
          </p:nvSpPr>
          <p:spPr>
            <a:xfrm>
              <a:off x="2724480" y="2743200"/>
              <a:ext cx="6418440" cy="11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40600" y="2860920"/>
              <a:ext cx="6422760" cy="90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95240" y="3018600"/>
              <a:ext cx="6418080" cy="5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254400"/>
              <a:ext cx="8880480" cy="11772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56000"/>
          </a:bodyPr>
          <a:p>
            <a:pPr marL="1918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1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2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3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4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5" marL="191880" indent="-191880" algn="ctr">
              <a:spcBef>
                <a:spcPts val="11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6" marL="191880" indent="-191880" algn="ctr">
              <a:spcBef>
                <a:spcPts val="11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592-C304-4508-BA4C-AF9466FB72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1" marL="32436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2" marL="649080" algn="ctr">
              <a:spcBef>
                <a:spcPts val="1100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3" marL="973800" algn="ctr">
              <a:spcBef>
                <a:spcPts val="11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4" marL="1298160" algn="ctr">
              <a:spcBef>
                <a:spcPts val="1100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5" marL="1298160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6" marL="1298160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olitical structure did the strong nation state repla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udal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hoped that a strong Italian ruler would come from the Medici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chiavell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major outcome, other than dead people, of the St. Bart’s day Massac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ased fighting between Catholics and Protesta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politique who succeeded Henry III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 of Navarre (IV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hree freedoms guaranteed Hugs by the Edict of Nante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orship, assemble, attend university, fortify towns, hold public offi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massacre of 7,000 Protestants in Antwerp was called the _________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Fu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ffect did the Spanish Fury have on the Southern 10 provinces of the Nether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t caused them to briefly unit with the northern 7 vs. the Spanish (Pac. of Ghent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country was formed by the lower 10 provinces of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Neth., which becomes Belgiu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one of the two military leaders Ferdinand brought in to fight the Pro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ximilian and Wallenste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of the 3 areas Phillip II tried to conquer in this uni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therlands, Portugal, and Eng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Spain’s economic motives for trying to hold on to the Nether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 $$$ and valuable trade &amp; shipp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n Granvelle failed how did Phillip II respon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nt in the Duke of Alba to use military for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Castiglione’s main emphasi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per behavior for every situ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brought English help to Protestants fighting in France &amp;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Nonsu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brought the lower 10 provinces of the Netherlands together with the upper 7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cification of Gh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actics did the Dutch resisters use against the Spanish Arm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erilla, pira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nted to rid the Anglican Church of all Catholic practices and structur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it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John Knox rail 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male rulers (Marys, CDM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Mary, QOS such a bad match for Scotlan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y French and R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Mary QOS execute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otting to kill Elizabeth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oes cuius regio, eius religio mea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ruler determines relig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leader of the Dutch resistance became a martyr for the caus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 of Or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Protestants want to succeed Mary I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izabeth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three main components of the colonial economy in Latin Americ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ning, shipping, and far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RC things did the “Elizabethan Settlement” keep? Prot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urch hierarchy &amp; ceremony, Book of Common Pr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religion is most of modern day Belgiu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vent provided inspiration for Protestants and marked the beginning of the end for Spai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eat of the Arm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Swedish King swung the 30 yrs. War in favor of the Protestants? What was his streng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stavus Adolphus, military leader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centage of French aristocracy joined the Huguenots to protest the Guise controlled monarch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0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Phillip II’s religious justification for going into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forcing Council of Tr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Phillip II put in charge of uniting the Dutch churches and gov’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rdinal Granv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English want to keep the Spanish out of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ar of invasion, trade rival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groups that came in to support the Prots in the 30 Years War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wedes, Richelieu, Danes, Dut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Henry of Navarre bring a close to conflict in Fr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verting to RC &amp; Edict of Nan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Erasmus’ philosophy a combination of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ian and classical belief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of the major outcomes of the 30 Years’ war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ance most powerful, Ger. states separate, continuation of Augsburg, Switz. &amp; Neth. are independ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wo countries continued their conflict past the end of the 30 Years’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ain &amp; France (ending with Treaty of Pyrenees in 1659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id Spain support in the 30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RE (Ferdinand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the main goal of mercantil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engthen your economy at the expense of anoth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four components of mercantilism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riffs, bullionism, colonies, sea trade, support for industry, exporting finished goods, full employment, large popul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ree causes of the commercial revolu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eds of N-S, putting out, rising pop., new industries, new shipping/colonies,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rivalries that came about as a result of the Commercial Revolu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g. vs. Spain, Spain vs. Dut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France &amp; Richelieu side with the Prots. during the 30 Years’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ated Haps &amp; Spanish, wanted weak Ge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things that brought about the demise of the Armad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, tactics, sea do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Coligny trying to get Charles IX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id Prots. in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conquered the Incas? The Aztec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zarro and  Co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Christian IV &amp; Gustavus Adolphus trying to gain territorial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ates in N. Germany (Holstein &amp; Brandenburg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families like the Medicis &amp; the Fuggers exert their powe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nding $ to key peo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ree key outcomes of the Peace of Westphali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wiss independence, Dutch independence, Hapsburgs loooooose, extension of Augsburg (Calv.), Fr get terri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Petition required the consent of Parliament for all taxati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tition of Righ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5 guys from this unit who believed in the divine right of king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I, II, James I, II,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Scots rebel in 1637?  What did this force Charles to d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arles &amp; Laud were try to force episcopal system on them, Call Parlia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the role of the </a:t>
            </a: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intendants</a:t>
            </a: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ervise local activities for bur., keep eye on parl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two groups formed in England toward the end of Charles II’s reign?  Who did each suppor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ries (king), Whigs (opposed to k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se policies pushed these two groups togethe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mes II (attempt to assert absolute authority, threat of R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was Louis XIV’s chief advisor while he was a mino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rdinal Mazar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ree countries where strong nation-states developed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in, France, Eng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ere the supporters of Charles and the Parliament called, respectively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valiers and Roundhea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ich of the Stuart monarchs was most bent on absolute control of all English institution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mes 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wo things that made Charles II appear to be pro-RC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ve of ceremony, RC wife, support for France &amp;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the main military reason the Roundheads were able to win the ECW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rowess of the New Model Army &amp; holding most big towns &amp; 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things abolished by the Rump Parliament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use of Lords, Anglican Church and the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Louis XIV’ main military goal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e borders in the Alps &amp; at the Rhine, ultimately expan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Act did Parliament pass during the Restoration to keep RCs out of governmen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st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most of Europe respond to Louis XIV when he took Strasbourg in 1681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med the League of Augsbur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Code excluded </a:t>
            </a:r>
            <a:r>
              <a:rPr b="0" i="1" lang="en-US" sz="4200" spc="-1" strike="noStrike" u="sng">
                <a:solidFill>
                  <a:srgbClr val="ffcc66"/>
                </a:solidFill>
                <a:uFillTx/>
                <a:latin typeface="Arial"/>
              </a:rPr>
              <a:t>both</a:t>
            </a: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 RCs &amp; Puritans from public life in England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rendon 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French nobility &amp; townspeople respond to Mazarin’s continuation of Richelieu’s policie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ron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wo key places where they did no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taly &amp; H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action by Louis XIV caused the emigration of 250,000 Huguenots and the closure of Protestant schools &amp; churche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ocation of the Edict of Nan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hree things Louis XIV did to glorify himself in the eyes of the public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s, army, ceremony, propaganda,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law required that English imports be carried on English ships?  What nation was this designed to hur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vigation Acts, the Dutch Republi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hree causes of the commercial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eeds of N-S, putting out, rising pop., new industries, new shipping/colonies,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rivalries that came about as a result of the Commercial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g. vs. Spain, Spain vs. Dut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the main goal of mercantilis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rengthen your economy at the expense of anoth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four components of mercantilism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riffs, bullionism, colonies, sea trade, support for industry, exporting finished goods, full employment, large popul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components of mercantilism under Colbert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elop resources, encourage industry, high tariffs, French imports on French ships, the t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2 people rebuilt France after the religious conflic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 IV &amp; duke of Su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n which direction was Louis trying to expand in the Nine Years Wa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st, into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lliance was formed to remove the French from Ita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gue of Ven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ould Richelieu do to nobles who refused to follow his reform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prison, fine, execu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did Louis XIV never call the Estates General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rce of power for nobility, didn’t need them for $$$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policy let Charles I rule without Parliamen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thoroug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did the Whigs &amp; Tories call to throne in 1688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y (Prot. daughter of James II) &amp; William III of Or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William &amp; Mary agree to accept in the Glorious Rev.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ll of Rights &amp; Constitutional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would William be willing to accept such terms that would limit his powe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ce to be King of Eng. &amp; oppose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both James I &amp; Charles I do that the traditional nobility found threatening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d titles &amp; off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’s philosophy was “one king, one law, one faith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French leader was determined to suppress Protestants domestically but willing to support them internationally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chelie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Treaty gave Louis the keep to put his grandson on the throne of Spai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trech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Popes of this era that were more political than spiritual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lius II and Alexander V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the Treaty of Utrecht give the English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iento &amp; Gibralt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was removed from Parliament in “Pride’s Purge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byterians who insisted on their church syst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ere did the Royalists go after Charles I’s execution?  What did they do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ance, resisted Cromwell &amp; Commonweal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reasons why Louis XIV invaded the Netherlands in 1670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king fun, territory, had England as an 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did Charles I disband the “Short Par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manded redress of grieva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Cromwell rule the “commonwealth” of England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 Lord Protector over 10 districts run by gener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dentify the 2 basic sides in the ECW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itan Parliamentarians vs. Anglican Monarchi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wo of the devices used by the Stuarts to raise funds outside of Par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ip money, impositions, forced loan, 1/4 tro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ere was Louis XIV looking to expand in the war of Devoluti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n total, how many years was Louis XIV at war with Europe off &amp; 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7 ye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work and author that describe an ideal society that will never exis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Utopia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, Thomas Mo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determined to give France peace &amp; an improved economy in the early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rdinal Fleu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inancial crisis crushed French faith in public fin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ssissippi Bubble Cris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he fa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ied too soon, Louis XV was a foo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general attributes of eastern Europ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grarian, technologically behind, authoritarian ru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bad declined by 1650 because of foolish monarchs &amp; decline of imports from the New Worl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ai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had declined by 1750 because of political disunity &amp; overextension of their trade empir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Netherlan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ndustry did this country remain dominant i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nk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olitical group did George I favor when he came to Britai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hig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arty supported a strong monarchy, low taxes, and the Anglican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or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ominated control of the House of Commons in the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ealthy landowning 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Michelangelo’s most famous painting &amp; sculptur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stene Chapel &amp; Dav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Age of Exploration was driven by desire for what two thing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ices and precious met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supported the Stuart “pretenders” in the early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acobit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ose to the office of Prime Minister by solving the South Sea Bubble crisi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obert Walpo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Walpole take executive powers away from the monarc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rmation of the cabinet system (treasury, military, etc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countries whose decay led to advances by Prussia and Russia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and and Swed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countries fought in the Great Northern War?  Who w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ussia and Sweden, 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se diet required unanimity on all issu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an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greement provided a legal basis for Maria Theresa to rule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agmatic Sanc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Hapsburg repelled Turks &amp; Louis &amp; gained in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opol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groups the Hapsburgs forced into their Austrian Empir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talians from Lombard, Slavs, Magya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ll did the Pragmatic Sanction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t very, the other European powers did not honor it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ork and author focused on man’s ability to determine his destin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Oration on the Dignity of Ma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, Pico Della Mirandol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eclining power in the east allowed the Hapsburgs &amp; Hohenzollerns to fill the power vacuu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ttoman Empire</a:t>
            </a:r>
            <a:r>
              <a:rPr b="0" lang="en-US" sz="4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eceived the title “King of Prussia” in exchange for help in the war of Spanish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primary characteristics of the Prussian stat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my &amp; Bureaucrac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accomplishment of the Great Elect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Uniting the Prussian Stat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he accomplish thi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es to build army, Junkers must go through him for power, improve farming &amp; indust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hree groups opposed Peter the Great in his plans for Westerniz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yars, Streltsy, &amp; Chur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re the Boyars tamed by Peter the Grea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al standing determined by job, shave-o-rama, loyal to state fir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evolted when Peter went wes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relts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re the Streltsy tam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orture &amp; execution, corpses on displa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russian king imposed austerity and built the Prussian army to 80,000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William 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nglish dynasty emerges from the War of the Ros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udor (starting with Henry VII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Hapsburgs decide to focus on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line of Spain, losses in 30 Years Wa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Great Elector &amp; other Hohenzollerns keep the Junkers in li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est jobs in bur. &amp; mil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inherits Prussia’s army at it’s peak and is ready to use it to expand Prussian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re always Russia’s two main asse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ople &amp; resour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both the Hapsburgs &amp; Hohenzollerns grant the nobility to curry fav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omination of peasants &amp; serf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Peter build his great, superficially western, capit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. Petersbur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ways that Peter the Great reformed Russia’s arm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mproved weapons, discipline, outside officers, regiments, western uniforms, “Go Russia” t-shi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Peter the Great’s primary military go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m water po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On what sea is he able to acquire thes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Balti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steps Peter took to improve Russia’s econom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ercantilism, western craftsman, industrial serfs, ir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is Machiavelli’s emphasis on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rtú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so humanis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ong individual, classical source (Rome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 the Russians defend themselves against invasion by Charles XII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raw him in &amp; let him freeze &amp; starv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oes Peter have his son kill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opposed westerniz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hree basic classes of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bility, bourgeoisie, peasan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country was famous for land recla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62120" y="4114440"/>
            <a:ext cx="79581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introduced the new crop rotation system that included turnips and clove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958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Townshe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Jethro Tull’s two main contributions to the Ag. Rev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7958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ron plow and seed dri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2 characteristics of NW European families in the Ancien Regim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uclear, married later, small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would you be living if you got married at 17 had 10 kids and lived with your aunts, uncles, cousins, and grandpare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 Europ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primary unit of both production and consumption during the Ancien Regim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mi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mmonly caused urban rio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flated prices, threat to traditional right, unjust ac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</a:t>
            </a: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he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Renaissance Ma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might encourage peasants to riot agains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might encourage peasants to riot agains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re the two basic types of Bourg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mercial/financial &amp; bureaucratic/profession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many “new” cities lack that would have helped them handle the influx of peop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frastructure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world population in 1750? What is is toda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3/4 billion - 6 bill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landlords want to enclose their 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igher bread prices, wanted to force the use of new metho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happened to many peasants as a result of enclosur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ut loose from the land, forced to look for other employ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Bourgeoisie resen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herited legal rights &amp; privileg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as the average European Jew treated during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n-citizen, lived in separated area, discriminated again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one factor that may have led to the population boom that started in the mid-1700’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d of the plague, less warfare, improved healt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Renaissance Art differ from art from the Middle Ag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lism, accurate anatomy, secular patron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two crops that were introduced from the New World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tatoes &amp; cor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re colonies supposed to provide to the “home country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kets and raw materi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n what kinds of places did the “new cities” spring up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terways, road hubs, sea po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re the two basic types of Bourg.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mmercial/financial &amp; bureaucratic/profession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ould you be living if you got married at 17 had 10 kids and lived with your aunts, uncles, cousins, and grandparen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 Europ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unit of both production and consumption during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famil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major movement did the new science lead t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ew Philosop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irst to refute Ptolem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pernicu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Brahe’s opposition benefit Copernic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ve him public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Brahe’s assistant that drew pro-Copernican conclusions from Brahe’s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epl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conomic developments allowed for secular patronage of the ar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ased trade &amp; ban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church respond to Galileo’s support of Copernic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condemned hi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ather of modern philosop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scart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two great political thinkers of the 17th centu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obbes &amp; Lock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champion of the empirical metho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c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Newton’s major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incipia Mathematic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Newton unlock the door to the rest of scientific discove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universal gravitation was major missing link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main point of 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on Quixote</a:t>
            </a: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 combination of realism &amp; idealism are important for a happy lif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ork and author described the fall of Sata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lton’s Paradise Lo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cc66"/>
                </a:solidFill>
                <a:latin typeface="Arial"/>
              </a:rPr>
              <a:t>Describe Shakespeare’s political &amp; social outlook.</a:t>
            </a:r>
            <a:endParaRPr b="0" i="1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Conservativ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ork and author described the effects of too much Restoration Party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unyan’s Life and Death of Mr. Badma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e two major northern humanis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&amp; Erasm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2 major influences on the literature of the 17th centur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ECW, counter-reformation, restoration, Elizabethan time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confronted both the Jesuits &amp; skeptics and argued for the separation of religion &amp; scie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sc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Hobbes’ absolute ruler control his peop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anipulating their fear of pain and desire for pleas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irst scientist to maintain that mathematical relationships explain everyth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lile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wo of the main influences on Hobbes &amp; Lock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W, Louis XIV &amp; Glorious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List two of Locke’s major belief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lank slate, overthrow bad gov’t, natural state is freedom, natural rights: life, liberty &amp; proper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argued that the existence of God was ration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sc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are the three most prominent philosoph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tesquieu, Voltaire, &amp; Roussea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ould you associate Voltaire with our 1st amend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advocated basic freedoms (speech, press, religio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cc66"/>
                </a:solidFill>
                <a:latin typeface="Arial"/>
              </a:rPr>
              <a:t>Who believed that people must turn over their rights to a strong ruler his rule would prevent anarchy?</a:t>
            </a:r>
            <a:endParaRPr b="0" i="1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Hobbe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was the subject matter of the Northern Ren. a departu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thic, super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Adam Smith’s chief influence, and what system did he attac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ysiocrats, mercanti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author and work that discussed Laissez Faire Economic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dam Smith, Wealth of Nat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Smith believe humans should do with natural resourc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loit them like craz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n a laissez faire system, what guides the econom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“invisible hand” or the marketpla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four most formative causes of the enlighte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int culture, need for reform in France, Sci. Rev., success of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philosophes criticize the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omoted evil acts, took advantage of political position, emphasis on superstition, didn’t practice toler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orm of government were most of the philosophes most comfortable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nation was most often glorified by the philosophes? Criticiz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, 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, according to deists, was the divine watchmak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Montesquieu argue was the best form of gov’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ree branch, separation of powe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sue caused a split between Thomas More &amp; Henry VIII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’s desire for a div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it about Montesquieu’s background that influenced these belief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was part of the noble Resurgence after Louis XIV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major beliefs of Rousseau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ety over individual, bend to will, glorified motherhood, experiential education (Emile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women benefit from the enlighte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mphasis on education, saloneirs, glorification of motherhoo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criticized bigotry &amp; advocated free speech in works like Candid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oltai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major outcomes of the enlightenmen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, FR, Nappy, Enlightened Ab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ultimate enlightened absolutist?  Identify two of his reform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oseph II; seized church lands, = taxation for all, = punishment for all, abolished serfdom, nobility out of bur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tried to continue in Peter’s footsteps as the westernizer of Russia?  What made his/her position so precario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therine the Great, non-Russian, female, had to rely on nobil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goals of enlightened absolutists differ from those of the traditional absolutis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didn’t - just used Enlightenment idea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“enlightened” actions of Frederick the Grea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gal reform, reduce control over peasants, agricultural reforms, religious toler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shocking about Joseph II’s religious toler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was a Hapsburg (very RC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iod did Rafael belong t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gh Renaiss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Alexander VI try to install as ruler of Romagn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sare Borgia, his 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brings Enlightened Absolutism to a screeching hal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French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the first encyclopedia such a major undertak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rst time any group tried to compile “all” knowled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f you had to sum up the enlightenment in one word, what would it b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arn well better be reas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Frederick II  start the War of Aust.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nted Silesia, saw that M-T was weak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held colonies in the St. Lawrence &amp; Ohio River valley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the war of Jenkins’ Ear importa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ick off to series of conflic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Maria Theresa keep her kingdom together during the War of Austrian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cessions to the nobility, esp. the Magya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vent marked a major shift in traditional alliances (Fr. &amp; Au., GB &amp; Pr.)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iplomatic Revolution of 1756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r did this “Revolution” lead t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7 Years Wa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ction started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I’s preemptive strike on Saxon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first to “invite the French over the Alps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dovico il Mo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things the British gained from the 7 Years War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ll of NA east of the Miss., trade rights in India, disappearance of France from colonial scen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GB do to keep the French busy on the continent during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ve lots of aid to P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GB try to address the massive war debt they were left with after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ing their colonis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ight were the British abusing before the War of Jenkins E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ient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2 chief rivals in this era of colonial expan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 &amp; 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an audenc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 judicial council in the New Worl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creoles and peninsular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ople of European descent in the Spanish trade empire (creoles born overseas, peninsulares in Europe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id George III turn to in an attempt to increase the power of the mona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Tor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ause did John Wilkes associate himself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pposition to George III &amp; individual liber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nstitution did the Wilksites want reform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rlia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“virtú” that Machiavelli so value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bility to act heroically &amp; decisive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roblem did the 7 Years War leave all of its participants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 deb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increased demand for sugar and cotton in Europe lead to increased slave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lantation system demands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American colonists originally trying to protect when they revolted against GB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ights as English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Dutch trade influence remain high in the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new gov’t created in the differ from all previous gov’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quality of all white men, no aristocracy or social classes by birth, no k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causes of the French Rev.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 shortages &amp; prices, heavy taxation of poor, little taxation of nobles &amp; clergy, bourgeoisie vs. clergy, nobles vs. 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List two reasons why the French gov’t was in so much deb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7 Years War, American Rev., War of Austrian Succession, couldn’t tax upper class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did the 3rd Estate form when they left the Estates General?  What did they promise in the Tennis Court Oa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tional Assembly, keep meeting until they wrote a constit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did this become when it was recognized by Louis XVI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CA National Constituent Assembl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lass were the reps of the 3rd Estate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“German master” of Northern Ren. Painting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brecht Dur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nobles react to the Great Fe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nounced their rights, cleared way for Con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Louis XVI do to cause the poor to storm the Bastil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uster troops around Par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’s significant about who was involved in storming the Bastil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trance of the popular masses into the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kind of representation &amp; voting did the nobility want in the E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qual number of reps for each estate &amp; voting by ord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urpose of the Dec. of Rights of Man and Citize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uiding statement for the Cons. of 1791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got the franchise under the Cons. of 1791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ctive citize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evolutionary faction was more moderate and favored Constitutional Monarc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irondi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a way in which Louis XVI demonstrated his anti-revolutionary sentimen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uster troops, stall on Dec. of Rights, flee to Varennes, refractory clerg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components of the Civil Cons. of the Clergy.  What impact did it have on the French clerg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ected clergy, reorganized dioceses, seized lands;  Split them (refractory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Pope respond to the CCC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demned it and the Rev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ere the “crazy dutchmen” of the Northern Ren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ch &amp; Brueg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women of Paris march on Versaill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, make Louis agree to Dec. of Righ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chief concerns of the sans-culott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 and represent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enlightenment thinker’s ideas are most evident in the French Revolu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oussea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components of the economic reform under the Cons. of 1791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signats, guilds banned, more equitable taxation, </a:t>
            </a:r>
            <a:r>
              <a:rPr b="0" i="1" lang="en-US" sz="4800" spc="-1" strike="noStrike">
                <a:solidFill>
                  <a:srgbClr val="ffffcc"/>
                </a:solidFill>
                <a:latin typeface="Arial"/>
              </a:rPr>
              <a:t>laissez fai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levee en masse call f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scription, war production, price ceiling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pite their active participation in the revolution, which two groups were consistently left ou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or &amp; wo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kind of reaction did the invasion by Austria &amp; Prussia produ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nic, fear, “invasion mentality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ool did the Convention use to mobilize France for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vee en mass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Give two examples of occasions when the Bourgeois revolutionaries benefited from the actions of the poor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sailles, Bastille, insurrection, expulsion of Girondin, rev. arm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evolutionary faction was more radical and favored a republic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acobins (Mountai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“Spider King” who ruled France at the peak of its power in the 1400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uis 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successfully did the revolutionary republic deal with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Convention try to dechristianize Fr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ligion would get in the way of the virtuous republic, second author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places did the Dec. of Rights of man and citizen get its ideas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. of Ind. &amp; Enlighten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Paris Commune force the Legislative Assembly to d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ep down and give way to the National Convention (start of the 2nd Rev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of Edmund Burke’s criticisms of the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vs have no gov’t experience, democracy sucks (popular gov’t can’t work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vent led to the formation of the Paris Commu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Paris insurrection of August, 1792 (attack on Tuileries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cribe the politics and religion of the countryside in comparison with those of Pari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re conservative and traditional or devoutly R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Robespierre’s overarching (ultimate) go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public of virtu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steps he was willing to take to achieve this goal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hristianize, suppression of rights, massive bloody guillotine deat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“white terror”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cklash against the red terrorists of Robespierre’s terro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primary requirement for being a Renaissance Pri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Robespierre wind up turning the blade of terror against himself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iminated opposition without cultivating all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cribe the gov’t set up by the Cons. of Year III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uncils of Elders and 500 (leg.), Directory (exec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Directory use to maintain its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my over con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Babeuf claim in 1796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v. has not gone far enoug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benefited the most in the end from both revolution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things women did as participants in the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ety of Women, spokespeople, Versailles, fought in arm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Put these in order: Nat. Assembly, Convention, NCA, Legislative Assembly, Estates General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states General, Nat. Assembly, NCA, Legislative Assembly, Conven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land did Napoleon come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rsic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his title when he first took over the gover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rst Consu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ocument gave him this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stitution of Year VI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echnological process that preceded movable metal type made mass printing more feasibl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eaper pa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o things he did to squelch his opposi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entralize government, execution, give them high government posts, secret poli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wo main impacts of the 100 Day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ace tougher for France, kept A,GB &amp; F from fighting with P &amp; 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supported the Spanish Guerillas against Napp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C Church &amp; GB (Wellingto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oreign minister from Austria comes to the fore at the COV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etterni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Nappy benefit from the French Rev.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tionalism, military mobiliz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parts of the Napoleonic Cod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ivic equality, no guilds, promotion based on merit, end to social hierarchy, religious tole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At what time was he at his territorial pea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1810-11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as his final military defea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terlo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formed the Quadruple Alliance against hi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, Austria, Prussia, 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his reorganization of the German states call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federation of the Rhin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List two reasons the church feared the humanis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f-reliance, outside interpretations, authorities other than G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he bring an end to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read ideals of Rev. across Europ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goal of the Continental Syste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defeat of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things that led to the downfall of the Continental System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sire for luxury goods, British blockade, lack of unity behind Napoleon, desire to trade with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reasons the Russians were pissed at Napp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t. system, marries Austrian chick, Duchy of Warsaw, controls Hollan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goal of the Congress of Vienn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ake sure that no one state ever dominated agai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places did Nappy wind up in exi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ba &amp; St. Helen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groups supported his rise to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 &amp; land owning peasan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as the war with Spain a major problem for Napp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low drain on resour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2 reasons Nappy bit the dust in Russia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ld, starvation, scorched earth, won’t give him big batt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Czar of Russia at the time of Napole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lexander 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the message of Boccaccio’s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amer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ware of immoral behavi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he defeat the Austrians to gain control of all Italy north of Ro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usterlitz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Nappy declare in the Berlin Decre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art of Cont. system, no trade with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Nappy sell to TJ because he needed cash for war? (hint: cajun man)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ouisian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as “Nappy a Muslim”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British minister who came up with a peace plan prior to the COV and two parts of his plan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stleragh, Bourbons, buffer states, Quad Alli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eriod of history did many romantics look to for inspir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ddle Ag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movement started in Germany in response to Nappy &amp; the F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erman Nation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ffect does Napoleon have on the political power of the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reatly diminishes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ype of government was favored by the Congress of Vienn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the COV attempt to isolate Fr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ts up buffer states around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wo characteristics of the nation stat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xes, standing army, bureacracy, support of townspeo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wo entities did Erasmus compare in trying to demonstrate the true nature of Xianit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 &amp; the modern cl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the COV deal with the Confederation of the Rhi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aves it, and Germany, dissolute (not unified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English writer typified romantic revol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yr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used an albatross to symbolize a man’s burde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lerid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most descriptive of the romantic poe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ea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rote the work in which a man is freed from his deal with the Dev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oeth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the key tenet of Methodis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ner spirit will lead to a Godly lif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olitical/social event led to a revival in Roman Catholicism in France in the early 18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nch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beliefs of romantic historian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ill of the great defines the world, society is organic, thesis vs. antithesis = synthes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kind of activity did Petrarch inspi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ination of the classics, and writing related to th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4 major city-state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ice, Florence, Milan, Pisa, Genoa, Romagna (Papal State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competing political factions of the Renaissance use to communicate with the mass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 that they patroniz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classical features that were prominent in Ren. Architectur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mes, columns, roman arches, ornamentation, integrated sup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two nations were most involved in the exploration of the “New World” during the Renaiss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Ferdinand &amp; Isabella do (besides get married) to unify the nation of Spai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e borders, venture abroad militarily, strengthen the RC chur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ould the Printers’ Guild have supported the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onomic stake, literate and sophisticated, often opposed to gov’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Reformation offer peasa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chance for political liberation and social better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did Luther first defend his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95 These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t the Disputation of Leipzig (vs. Eck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father of Human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trar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benefice system allow the laity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y desirable church offices &amp; benefit economic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2 lay movements were the biggest attackers of the medieval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llards (Wyclif) and Hussites (Hu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ct by the Roman Catholic Church inspired the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95 These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ling of indulg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jubilee indulgence supposed to pay fo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St. Peters cathedral in Ro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ushed Luther to “discover” justification by fai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s own feelings of unworthi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Council of Trent say about church language and the official Bibl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ak Latin &amp; use the 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Vulg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kept Charles V from dealing with Luther quickly and efficient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 was always at war (usually with the Valois), and busy trying to get elected H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Luther side with in the Peasant Revolts in German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rman No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Luther respond to the charges brought against him at the Diet of Worm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e I Stand”, would not ch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members of the Schmalkaldic League benefit from the Ref. Economical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k over Church lands &amp; proper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kept the City-States unified against outside threa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Lod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political structure of Germany and Switzerland make them easier to refor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mall territories governed by princes instead of sovereign monarch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geography of Germany and Switzerland make them easier to refor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 from Italy, divided into small parts (state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said: “Whatever lacks scriptural support should not be believed or practiced”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wingl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group believed in adult baptism and were eventually opposed by both Protestants and Catholic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abaptists (esp. radicals gathered at Munster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formal name of the order founded by Ignatius Loyol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ety of Jes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major characteristics of the Jesui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ed on church, underground missionaries, great educators, confessors to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ere the elec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se predestined for salvation (Calvi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is it politically dangerous for a Pope to call a Counc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can limit his pow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ope gets the counter reformation roll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ul I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group called on clergy to live as examples and upheld the doctrine of the Catholic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uncil of Tr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emperor united the Spanish and Austrian sides of the Habsburg empi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did the Council of Trent place tradition relative to scriptu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equal foo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said: “We are all equal in the eyes of God, members of the Priesthood of all Believers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th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o the U &amp; L in TULIP stand fo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conditional Election &amp; Limited Aton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Under which monarch did England become truly Protestant (theologically)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ward V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n what work can this original English Protestant theology be foun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ok of Common Prayer (Cranmer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hree religious groups did Elizabeth I face when she came to the thron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Cs, Anglicans, &amp; Purit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at least three major causes of the Reforma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umanism, Hus &amp; Wyclif, political division, church abuses, social inequa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Zwingli feel penance was unnecessar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 had already borne the pain for our s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happened when Calvin tried to “reform” Geneva the first tim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led to Strasbourg (accused of “new papacy”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ool did Calvin use to create his “New Jerusalem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ict moral 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the three main characteristics of the Spanish Empire in Americ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man Cath., Social hierarchy, econ. Depende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Catholics and Prots. call unbelievers from the other sid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etics &amp; papists (respectivel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English monarch attempted to reinstate Roman Catholic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y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two sacraments did Luther claim were legitimat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ptism and communion (eucharis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book provided the majority of the doctrine for the Anglican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ok of Common Pr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two major down sides of the Counter Reforma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x of Forbidden Books and Inqui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sue kept the German and Swiss Reformations from uniting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hysical presence of Christ in commun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finally gave princes in the HRE official control over relig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ace of Augsburg in 155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main reason Henry VIII started the English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nted an annulment from Catharine, desired control over church structure &amp;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major Protestant Group in each of the following areas: England, Scotland, Switzerland, North Germany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glicans, Puritans, Calvinists, Luther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ype of art reflected the spirit of the Counter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ro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most popular classical figure during the Renaiss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Baroque Art designed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t an emotional response/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centage of Protestant converts were “reconverted” by the Catholic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 5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List three components of Calvin’s moral cod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 drinking, no dancing, no plays, religious music &amp; psalm reading in tav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e two major events that push Luther into the arms of the noble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asant Revolt &amp; squashing the Anabapti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it tough to be a Prot. In Fr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ordat of Bologna (state control of church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Luther abandon the Peasants in their revolt of 1524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t xian’s role to transform society, better politically to back pri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Calvinists organize the churches and governme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c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Spain support in the 30 Years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RE (Ferdinan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family did Catherine de Medicis most often conspire wi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Guise Fami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Mary, QOS such a bad match for Scotlan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y French and R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1:40:26Z</dcterms:created>
  <dc:creator>Krister Swanson</dc:creator>
  <dc:description/>
  <dc:language>en-US</dc:language>
  <cp:lastModifiedBy>Susan Gregory</cp:lastModifiedBy>
  <dcterms:modified xsi:type="dcterms:W3CDTF">2006-01-22T06:46:36Z</dcterms:modified>
  <cp:revision>60</cp:revision>
  <dc:subject/>
  <dc:title>What political structure did the strong nation state replace?</dc:title>
</cp:coreProperties>
</file>